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3B2-9A54-4F4C-95CD-56443560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24F-C78E-4AF6-8C7A-B01FB29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1B0-ECCD-439B-A7A4-4F8682A6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BA5-22FB-48F1-8278-AF98BB4B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7FA7-94B7-4584-9A61-284C3B06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4DC4-69EC-4FE0-AC0E-2B89937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C9D3-F991-4BC6-BC99-855D0CC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D26-9EA3-4369-AFF1-E72CC94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676-F529-4CEE-8C13-24056EA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69B-C8EA-4BC4-B686-CB5EF3C9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54B4-97F8-4E6E-BCAD-F5FB9A8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C9E-712F-40B1-8CC8-4271818F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59D-FC6C-4245-B9B1-9AF3D2C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7FC-FED2-4F12-B773-6367B21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5B9E-9BFB-47FA-8A94-DC6A20CC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6B2-3259-4619-A465-7508DD72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82A0-FC60-4C9C-839A-3FBB8A0F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BC3-140D-4276-B84A-96AD9C20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AF0-95BE-48C5-B631-2CE564E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D00-725B-4FBB-BC29-2EDE10D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A63-193F-4B82-B3C1-B6D9510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F9C-3D24-4DA9-8DD3-23B0D8A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040-7110-4323-9DFD-2329FA2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F01-D9AB-49E7-A417-9959BB1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4701-1218-478F-9D64-8055EE87CD6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E1B-F4E2-4A9D-AA51-88185F29789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rting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stiga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w of Conservation of Ener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tates that energy can neither  be created or destroyed, it simply changes for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refore, heat represents energy that has changed form during a physical or chemical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Proce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8001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s involves changes in states of matter that result in heat transfer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ample: Ice melting and water freezing are two physical processes involving solid/liquid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involve change of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dotherm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0773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s is the process in which heat is absorbed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refore, this process is one that absorbs heat from its surrounding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 general, endothermic processes or reactions are signaled by an increase in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otherm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388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eat exits or is released from the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freezing of water is an exothermic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othermic processes are signaled by an increase in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838080"/>
            <a:ext cx="815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mperature change is one of the common signs of a chemical reactio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en determining the change, scientists look for sig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igns include: unexpected color change, a change in pH, a change in electrical conductivity, change in melting or boiling point, etc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3:27:06Z</dcterms:created>
  <dc:creator>teacher</dc:creator>
  <dc:description/>
  <dc:language>en-US</dc:language>
  <cp:lastModifiedBy>teacher</cp:lastModifiedBy>
  <dcterms:modified xsi:type="dcterms:W3CDTF">2010-12-16T13:42:48Z</dcterms:modified>
  <cp:revision>1</cp:revision>
  <dc:subject/>
  <dc:title>Converting Energy Investigation 3</dc:title>
</cp:coreProperties>
</file>